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D14D9-75EF-48F4-82C2-60BFEFA27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7E872-4DA2-4A39-BF95-43C1440E6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4E211F-D98D-4095-8A49-E6EA074D56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1DA6B2-4235-4985-A1FD-539FD6770C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3E3724-04E5-4730-BD19-777C2229A8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23E40-C631-4B8E-9C8F-2FAFE765F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FF74A3-C659-4D19-9016-131B1E5D8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ACC62-5A35-4517-81AC-3A3DCC4D1F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5802A5-2418-4575-A2B8-6FF2A0F6DF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EE9702-43E0-4E71-8A76-819FFE74C4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AE9B29-80D8-4E9E-99F2-276046B71F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E72BB6-7CD9-40A0-BA7D-7D2BAA999A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93F62-0E0B-4E40-9B71-EFC54BCC6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8B0565-B342-4DA2-B8EE-121A0A1A47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E86484-96DC-4EC6-A629-565E518DA9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697E29-F31C-4FD2-BBD4-76300A6FA3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0DF79F-A661-43D7-8FB0-39E315C1D3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23FCF6-6EB3-4C33-97F6-712511C58E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D833E6-AE83-46C8-8341-4B8628F63C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2938B2-FF95-41F7-A11F-D86A6E4709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50A343-E54A-480D-8F1F-587976C5E3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D5E2B6-76BA-4ED8-97C5-D26E6B18FC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4B2D8E-134D-4536-9393-C250520387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BA31B-7011-4E0B-9216-413B9A026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C35414-9644-4232-A239-5B4FD12346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60BC72-B420-440A-9D07-3330168431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C39183-EE17-4015-8997-E675DE223D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F0E223-E01A-4855-9C06-F3ADCF1FFA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6ACD83-EDD4-4A68-8AAD-E08D6DA438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4AABAE-A3A0-4A9C-8176-8B52ACE7D7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B1EB8A-22A1-4C9E-87B6-EDE6BB8782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6DA515-4E78-4CE1-9CB0-FC1C0EFBA5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8C291D-95F3-40C0-BD80-7DE8FA2E14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9558E6-4575-4E0B-AE78-9BB57522F4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6E9C0-C7F3-4726-9E96-C0BEFA0B8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661E76-C3F1-4A63-8668-BC04286A49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8A87F1-CB02-488D-9F95-ACBE507FA1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F9295F-BF96-4095-9332-5D4F3C91FF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22BE490-9F7E-4119-A42D-3EF53B4C78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45F29D-C5E1-4B84-A6F0-CDD81AFC92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82B8C2-3119-4444-9DA5-FEACEB04AA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A9A686-EEA1-4ABB-B9BE-8205B6514B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A5B29E-EABD-42B6-AF86-7929824E01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16B05E-C183-4C0A-ACCC-846A6948F9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08D443-4632-40D9-BF39-AA149A62F1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7803A-5F02-42FB-93A1-A68139687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BAA1E9-9FEB-48EC-B1D2-6B40F86C2E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570C89-E9AF-4F39-8353-7BE0BB2184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EB29CA-391A-47D5-B72D-AC2773BC6D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265329-A2BE-4565-B529-477409020A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AC82E7-DC38-4E70-90C9-E7A47E40549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28AE0FA-5092-4308-B726-FEA157947B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21C361-415E-4792-BBB0-4C8ED42437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46123E-5D83-47CD-BC8D-F6CB215571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F50DEF-FECE-4E26-A15C-F4734F2A7B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5A7E7C-0727-42D7-A1A7-24BAB4F9B0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11397-2F6B-4818-8A9D-B2B595770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44CCD0-DF3D-4563-9876-55C7F23F69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E1C2C4-487F-4F0B-BCEC-9D453581EA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6FB023-0DE9-4046-A1D6-570F8DBF8B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80C675-AE18-49B8-B9D4-6B36DC9816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44EF69-6F20-4D3C-960F-5742258926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1E6D1C-F27D-4BCE-8666-C05DF3AF9A4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ADAB1B0-C37B-4CB4-9461-A835976CCEF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E7558A9-306E-48ED-AC63-6E455FAB704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521FD26-C88D-4DB4-BDF2-EBB709D903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E07027-DAFE-465C-AD3B-73EE1BFDB2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666D0-0B18-4E3B-83A2-BBE28DA6E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6C4A8F-AC6B-4767-8BF5-6BDDE08619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465236-E3F0-4F4D-8DD4-851D41DECA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C38D7BE-3C2D-4712-8A04-D0E87EA0CD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57A2E1-79A0-475E-A1A2-9875F7852E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BC83AF-6EE4-471C-8FDD-60C0CD013F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10F0E8-2FF4-48DE-99D7-F0A4D00639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10AA80-6096-487A-B679-6AB0C1CFB2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F4C3CB9-1059-444E-B6B9-EE1404FB936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C08CCA7-A4C7-4E15-9B41-D775DC7E714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D08526B-A11B-410E-B0CB-F43511ED9D7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E9172-2B13-4945-BC04-4864689BA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C7C86B4-9A36-4EA8-9EC3-24C4678B94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E57822-0547-4B8D-9C5D-719738C189E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5C4D774-BA60-49AB-805F-7BFD0D21A5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355ECC-5AE5-45B5-B640-CBF9CDE02B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E0B68BA-6ACB-4A6F-84B3-4A9E91FA910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9B0689-54B2-4EC7-800F-A17EFC8A8E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52FC8F-8FEF-48D4-913E-81E80F979A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79BDCE-31DC-41AF-9AC2-2779FE9F5D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26F09A-340B-4849-8792-C2ADE3BF91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8276BA8-CB2F-4B43-BC3F-E8EE9B202BD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5BEF7-0C68-4F06-BD5F-6F6770BBE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CA1168-3883-4119-82FC-D744303FB23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25D3E0D-DD6B-432C-94F5-757EF3B7A9B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9D0636C-749B-4625-8039-2B871D05C0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FE21883-427C-42A0-9FA2-0688F13FB5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85C8FE-E98E-44B3-BEC4-6AB384FEA5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5C18C1E-CE6F-40C7-BF71-D58BDB9DA7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645C27D-D402-484F-9A69-609F94AC35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4292116-9F64-4F4E-9AF4-A2813412DC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D98E222-6A10-4A85-B2F4-8E4ADB9463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82FA73-862F-42F5-98A0-E6E032B26B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6852B-9C5D-433E-BCA9-FC39DF07C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0957CB-2777-4B70-BA91-D615553CF26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DE2CF5F-BB05-40FC-8C2D-C33DA1DD927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D78CCD9-2939-40CC-8A1E-BB3AAE36506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37FDFFD-7B33-4B05-A1A1-AFFEA13BC98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A3A87D-0CA9-4E6F-AF50-216CB49A8F0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151FF80-C512-448D-961F-92E484B1DBA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90A659F-14EA-4E9F-B30F-464B5D465F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E5EEE6-6B78-464A-B0D9-33B7DECCE2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9007ED2-A9C7-4E36-8384-A852336E406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9048CB-9E35-4EED-B6B4-69EDC85137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BD3FE-B82A-4118-8326-DC4132DA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8106E-C521-4746-AEFF-FD4EE804A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7850BA-8D9C-443B-8CAB-02ED60C795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06F5D4A-D6A4-4425-8E90-157BDAD71D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C0F1B55-5B10-4CE3-8315-3CBEB964297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F8A77E2-EFA2-406A-A224-5656D83066E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F09869E-E22C-4637-9CF6-F5CBCD08FC5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F55040B-2D02-4062-88D3-9AEBA0D6442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726F487-820C-4FB2-8EBB-76A6D9B80A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858BB43-2913-4B35-9147-C799C48DC2E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4D57BC5-966F-47FF-B0F7-AB28D90936E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6180BDB-8371-4D26-B7E8-BC5A69B54CA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C986B-F36C-4452-AABE-554D250A8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CA6A483-DE6F-4B68-9466-C8FC9FDC506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E754497-B260-4CEA-8D03-1932CD9177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870D05-07EA-4E91-9076-923588BF4F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D9500D-32E3-42DA-84D3-D6748B092B1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FA4C076-9253-4D47-B4C4-4189E57A02C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047AC8D-F41F-4116-B1D1-56806310940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018AE9A-D397-4F36-99BE-19B064B7103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F2DACCB-A266-4D88-8DDE-4126FA40B34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E994095-5B47-483A-8D44-67EFD737C74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5893DFF-DAC5-4569-B814-0595DCF169A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D7122-4748-4BF7-B912-2210804CF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E93BF84-FA43-408B-AF50-4C1C5E39101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92058CA-44A4-43D4-8F19-E7E2BA4204B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FB2CC78-4491-4D8C-92A7-C90BF74D140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7FD36B7-B7BA-44E0-882C-F1A96549285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37D4AB4-74CA-4EF3-8CD5-BE439EE6E4A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5166D2-DB19-40BB-A944-77B345510DA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9661AF0-E3F0-4DE0-BAA2-416B71FBEBF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D8B5BEF-54F2-4CB3-972F-6E927CFDBB7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FF972A2-357B-4791-9B57-694AEEE39AB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10609A5-C2C6-432E-9E7D-DB1BDAC6FF7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9AF27-0BE5-4B72-AAE0-EEA5713CC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724ED95-ECA4-45A8-8CBB-634AD40EC26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D501DC2-E76C-4C86-AE7F-F907729096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46BBAB3-5C00-4F74-8EA4-25CF1AFBF5F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2DE467F-1996-43F2-98AD-B9AC01299A1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5247501-3650-4831-A27B-7AE52AE8915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66C3C78-2188-44F2-B0E8-9E07748699E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6109D50-643F-4B50-BB2A-1851A0AFD8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0B0A3FA-06A8-47B6-9EEF-62AE422AD67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CFF55BE-E9A4-4458-AC46-029DC657F84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2DBE3BE-6DCC-446F-9B59-7C2ABEEE532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592B7-9FF4-4598-AF72-47E33CF98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16DCBF1-A2E6-48DB-949E-67BC79F035F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9F7E694-5E39-4702-A3EA-DCE414E867C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F3629CA-EB3C-4175-914B-D770EFBAF10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776AC2C-0FB9-4EDD-8953-F3049C6063F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3330846-418A-41B2-BE6A-8998790BF14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54C00CA-0F7E-4C00-BB36-4B124F537A1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FB15FE2-F9C8-49BC-8049-35CF588861A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A178F5E-2B94-4BBB-B7F8-263086082F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1AA6A92-6659-4E56-9B93-7F546E5C942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FCB6AD-EF13-4C0C-AF69-0ACE02D7972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AB2911-22DF-42B9-A5EF-26C1E86316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BFCC61F-F12E-4D02-B5E3-7DE4A69D723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9628811-592B-40AD-B97F-A86961EFD5C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6BB59A4-F500-46FA-8D78-9BCD77489BF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D8BD1B3-0063-48F3-9E8A-907E299DA62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9B426EC-E185-4EE2-9DB0-FE4E564425C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004CBE0-E437-468D-9B16-05AD3F3B543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C92B133-C190-4973-BFB6-BC846321119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E98C6E4-62BB-4678-89B8-096554ADD8F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467DE63-C47A-4595-AF78-5701167345D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88E5ADF-2DBB-46EE-BF6F-E38F52DA3C7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177D4F-3C8B-4A53-AC02-289710AB0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1AAFD4D-4964-4354-8DA6-87A681DEA4E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CE497F0-3B98-4BC0-B888-7A5870F099D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C7727D4-363D-421D-9511-3F0B733A46E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3E0573C-B3FF-47DB-BA20-0501F9586C6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49DCF7B-9742-4997-A387-1B882F08895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FB1170-8078-47E0-9640-48EA08CDF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B207CA-77ED-495C-A2E0-F24CFB0B20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09608-54FA-4A20-975B-7E6B33B680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1695D-3195-4EAA-AFDE-D669B67CD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B21CF-8554-411C-BB31-2B254C3E56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5924F-D788-4C7B-970C-B8A05F9B4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704F7-9D7D-4FDD-A023-2FD4E9FA0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D8BD1-7209-439E-8743-103BB08C2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C9E06-E9AA-40DB-BB22-5E34A5DF3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6FE46-9B2B-4D8F-A905-B737317B88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2AE49C-13A3-48FC-81AB-9209C4C202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51893B-0B37-4617-A978-3D6AF3E3F2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C81EBE-4E67-4D3C-909B-D1B4C40B7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E16AE-DD4A-4964-91BD-D45CC8D03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74773-76B8-40D3-82A3-A71C34625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2D122E-88E3-41FA-A3DE-589A352CA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D9785-7F4F-4814-A035-9B755A768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340844-A016-4573-9D14-1FA0711E8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81CB2-74BD-4CA8-85BA-773024DC3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9A16B-516C-4D21-A1FF-A35753855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C277A-9AAD-44A5-BEE3-9B62D1159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E8865-6AE0-468F-843F-D1C70B5A56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FC6182-08B5-488A-9518-5D1967EEF0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0D4D75-3836-48DB-8556-DB8739F252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5BADE1-221F-4ECE-87F0-4D41D2C363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F9BB6-6F43-46E8-8298-E99A3D199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B917A-5269-496E-B00D-AF730C90D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4494A3-9581-4685-88D5-32B617B79D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7448CD-F98D-4BCA-9DF1-7A91681706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8EE22B-02F9-4BA4-BE65-7E2A73636A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ADA35E-822D-4272-88E4-1D621235F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70B0A-76FC-4F5C-9863-A03E2391A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DE813-2165-4F03-9614-B87790CDEA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C4902-B69F-4A23-B3FC-1F6C6EE4B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11A721-63BF-44AF-ACBC-4A7D657C31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4A010E-6AD2-42B2-883B-6677AC6C7F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F958-C412-46CC-BDA4-DAF8C3CDB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D436EA-E667-48DB-921D-F819D6D940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0EF4A6-062F-4415-9F00-A0F0C431A6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99B859-831C-46C2-B521-90EF784DE7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A3195D-60F1-4446-AB07-262E9B8FA0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4A788E-6B08-4D12-8F46-4FEA1C02FD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DF8212-0919-4B86-B833-1782A965E4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7B7B40-14D6-4CB8-B446-DC744FA1FE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892753-A902-4EA5-979E-222537BFA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49FF01-7605-437B-9289-F7EBDD172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C0A7D-AA6E-425B-B90E-1BD1BC4F5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4FB34-ABD1-4024-87F6-9E0751E50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C643B-C6D6-4EDC-9350-01A72F17F4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F63B93-5A38-4799-AEB9-92B3996062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24C664-EE31-493C-A1F5-4A1B7F689F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75B1AC-4A92-47FA-AFA7-B3C33D947C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859A36-53AC-4745-9AB3-4AC227D9D4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EC6BBE-FE39-47C4-9689-C417F9B3A0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65950F-43E9-428E-83E2-C20E6C39B2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5B78C-A28A-4173-A2CB-B9A28D8C52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D5B14F-6E62-4ED7-AA29-056F563B5A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CC96D-BDD0-4A73-8FEA-21EBF2C92E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DBB16-471B-4980-B125-CA7CF30C5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16692B-C2E3-4E18-BDA0-A4437274C4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A947AB-8A4B-4A8C-A61F-42DD406C7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35FAD2-85FE-4FE1-B6DF-C68628738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BDBBC7-C4E9-475E-B369-AACB8674ED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C28363-84CD-43DA-812B-F246E09163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5F5F1C-BC16-4CC8-8681-9AE6AD42AC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0AFC6D-D2E4-4ABC-BB94-FF1B811A0C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226EC6-4614-41E0-A220-E29C21D8A7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9FC898-F91F-497E-8F2B-037D80652F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28A8C9-C5CE-43B6-99FC-EEC6563DA9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0387-DFAF-4D08-87BC-5127842E3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F5555D-5E57-4090-A8F1-76E151853E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699255-49B2-44DF-8212-4A1CB8B4DF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849FB8-BC27-4A8C-8523-D4B26C1743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3E7722-59BA-42BE-8316-397764DDFD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83E5B3-CCB4-4EE3-9304-B717DA00E4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1F47FF-F37B-4642-84C3-83AA91BBC0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E27537-1FAA-4636-95A4-0CBB335AA5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022949-AB1E-40A7-A7FB-77AF88BD90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EA90E-39B3-4583-BF9F-7E801F7A7A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98EA7C-E952-4444-880F-138F3BA8BE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0F06-8720-4AFD-A98C-CD33AFE0F712}"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654B-986C-4048-88F7-544726BBE38E}"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2"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0"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1"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7303-19F7-4D86-A4AA-4AAD88A2C631}"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12"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2"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5722-3D66-4EE6-A179-047C1848E01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图片 12"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6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4"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5"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6"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BCCB-11AE-4E3B-A66E-0AD3580A606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0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05" name="PlaceHolder 3"/>
          <p:cNvSpPr>
            <a:spLocks noGrp="1"/>
          </p:cNvSpPr>
          <p:nvPr>
            <p:ph type="dt" idx="37"/>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6"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7"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5C98-4A93-4400-9931-8BD9630E5E37}"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图片 12" descr=""/>
          <p:cNvPicPr/>
          <p:nvPr/>
        </p:nvPicPr>
        <p:blipFill>
          <a:blip r:embed="rId2"/>
          <a:stretch/>
        </p:blipFill>
        <p:spPr>
          <a:xfrm>
            <a:off x="0" y="0"/>
            <a:ext cx="9144000" cy="6870600"/>
          </a:xfrm>
          <a:prstGeom prst="rect">
            <a:avLst/>
          </a:prstGeom>
          <a:ln w="0">
            <a:noFill/>
          </a:ln>
        </p:spPr>
      </p:pic>
      <p:sp>
        <p:nvSpPr>
          <p:cNvPr id="5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47" name="PlaceHolder 3"/>
          <p:cNvSpPr>
            <a:spLocks noGrp="1"/>
          </p:cNvSpPr>
          <p:nvPr>
            <p:ph type="dt" idx="4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48" name="PlaceHolder 4"/>
          <p:cNvSpPr>
            <a:spLocks noGrp="1"/>
          </p:cNvSpPr>
          <p:nvPr>
            <p:ph type="ftr" idx="4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49" name="PlaceHolder 5"/>
          <p:cNvSpPr>
            <a:spLocks noGrp="1"/>
          </p:cNvSpPr>
          <p:nvPr>
            <p:ph type="sldNum" idx="4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29BA-010F-4205-9406-B3CBAD590D7A}"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图片 12" descr=""/>
          <p:cNvPicPr/>
          <p:nvPr/>
        </p:nvPicPr>
        <p:blipFill>
          <a:blip r:embed="rId2"/>
          <a:stretch/>
        </p:blipFill>
        <p:spPr>
          <a:xfrm>
            <a:off x="0" y="0"/>
            <a:ext cx="9144000" cy="6870600"/>
          </a:xfrm>
          <a:prstGeom prst="rect">
            <a:avLst/>
          </a:prstGeom>
          <a:ln w="0">
            <a:noFill/>
          </a:ln>
        </p:spPr>
      </p:pic>
      <p:sp>
        <p:nvSpPr>
          <p:cNvPr id="5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8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89" name="PlaceHolder 3"/>
          <p:cNvSpPr>
            <a:spLocks noGrp="1"/>
          </p:cNvSpPr>
          <p:nvPr>
            <p:ph type="dt" idx="4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90" name="PlaceHolder 4"/>
          <p:cNvSpPr>
            <a:spLocks noGrp="1"/>
          </p:cNvSpPr>
          <p:nvPr>
            <p:ph type="ftr" idx="4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91" name="PlaceHolder 5"/>
          <p:cNvSpPr>
            <a:spLocks noGrp="1"/>
          </p:cNvSpPr>
          <p:nvPr>
            <p:ph type="sldNum" idx="4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E2A9-BE5F-4CE1-A35A-F4646655B31C}"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图片 12" descr=""/>
          <p:cNvPicPr/>
          <p:nvPr/>
        </p:nvPicPr>
        <p:blipFill>
          <a:blip r:embed="rId2"/>
          <a:stretch/>
        </p:blipFill>
        <p:spPr>
          <a:xfrm>
            <a:off x="0" y="0"/>
            <a:ext cx="9144000" cy="6870600"/>
          </a:xfrm>
          <a:prstGeom prst="rect">
            <a:avLst/>
          </a:prstGeom>
          <a:ln w="0">
            <a:noFill/>
          </a:ln>
        </p:spPr>
      </p:pic>
      <p:sp>
        <p:nvSpPr>
          <p:cNvPr id="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3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31" name="PlaceHolder 3"/>
          <p:cNvSpPr>
            <a:spLocks noGrp="1"/>
          </p:cNvSpPr>
          <p:nvPr>
            <p:ph type="dt" idx="4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32" name="PlaceHolder 4"/>
          <p:cNvSpPr>
            <a:spLocks noGrp="1"/>
          </p:cNvSpPr>
          <p:nvPr>
            <p:ph type="ftr" idx="4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33" name="PlaceHolder 5"/>
          <p:cNvSpPr>
            <a:spLocks noGrp="1"/>
          </p:cNvSpPr>
          <p:nvPr>
            <p:ph type="sldNum" idx="4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EFB6-0EEE-41CE-A398-CA78539B0866}"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图片 12" descr=""/>
          <p:cNvPicPr/>
          <p:nvPr/>
        </p:nvPicPr>
        <p:blipFill>
          <a:blip r:embed="rId2"/>
          <a:stretch/>
        </p:blipFill>
        <p:spPr>
          <a:xfrm>
            <a:off x="0" y="0"/>
            <a:ext cx="9144000" cy="6870600"/>
          </a:xfrm>
          <a:prstGeom prst="rect">
            <a:avLst/>
          </a:prstGeom>
          <a:ln w="0">
            <a:noFill/>
          </a:ln>
        </p:spPr>
      </p:pic>
      <p:sp>
        <p:nvSpPr>
          <p:cNvPr id="6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7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73" name="PlaceHolder 3"/>
          <p:cNvSpPr>
            <a:spLocks noGrp="1"/>
          </p:cNvSpPr>
          <p:nvPr>
            <p:ph type="dt" idx="4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74" name="PlaceHolder 4"/>
          <p:cNvSpPr>
            <a:spLocks noGrp="1"/>
          </p:cNvSpPr>
          <p:nvPr>
            <p:ph type="ftr" idx="5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75" name="PlaceHolder 5"/>
          <p:cNvSpPr>
            <a:spLocks noGrp="1"/>
          </p:cNvSpPr>
          <p:nvPr>
            <p:ph type="sldNum" idx="5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9371-D6FB-448E-A2F5-9795B46B5968}"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图片 12" descr=""/>
          <p:cNvPicPr/>
          <p:nvPr/>
        </p:nvPicPr>
        <p:blipFill>
          <a:blip r:embed="rId2"/>
          <a:stretch/>
        </p:blipFill>
        <p:spPr>
          <a:xfrm>
            <a:off x="0" y="0"/>
            <a:ext cx="9144000" cy="6870600"/>
          </a:xfrm>
          <a:prstGeom prst="rect">
            <a:avLst/>
          </a:prstGeom>
          <a:ln w="0">
            <a:noFill/>
          </a:ln>
        </p:spPr>
      </p:pic>
      <p:sp>
        <p:nvSpPr>
          <p:cNvPr id="7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1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15" name="PlaceHolder 3"/>
          <p:cNvSpPr>
            <a:spLocks noGrp="1"/>
          </p:cNvSpPr>
          <p:nvPr>
            <p:ph type="dt" idx="5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16" name="PlaceHolder 4"/>
          <p:cNvSpPr>
            <a:spLocks noGrp="1"/>
          </p:cNvSpPr>
          <p:nvPr>
            <p:ph type="ftr" idx="5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17" name="PlaceHolder 5"/>
          <p:cNvSpPr>
            <a:spLocks noGrp="1"/>
          </p:cNvSpPr>
          <p:nvPr>
            <p:ph type="sldNum" idx="5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7AF7-571F-4E41-99F1-CE40E5773FA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图片 12" descr=""/>
          <p:cNvPicPr/>
          <p:nvPr/>
        </p:nvPicPr>
        <p:blipFill>
          <a:blip r:embed="rId2"/>
          <a:stretch/>
        </p:blipFill>
        <p:spPr>
          <a:xfrm>
            <a:off x="0" y="0"/>
            <a:ext cx="9144000" cy="6870600"/>
          </a:xfrm>
          <a:prstGeom prst="rect">
            <a:avLst/>
          </a:prstGeom>
          <a:ln w="0">
            <a:noFill/>
          </a:ln>
        </p:spPr>
      </p:pic>
      <p:sp>
        <p:nvSpPr>
          <p:cNvPr id="7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5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57" name="PlaceHolder 3"/>
          <p:cNvSpPr>
            <a:spLocks noGrp="1"/>
          </p:cNvSpPr>
          <p:nvPr>
            <p:ph type="dt" idx="5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58" name="PlaceHolder 4"/>
          <p:cNvSpPr>
            <a:spLocks noGrp="1"/>
          </p:cNvSpPr>
          <p:nvPr>
            <p:ph type="ftr" idx="5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59" name="PlaceHolder 5"/>
          <p:cNvSpPr>
            <a:spLocks noGrp="1"/>
          </p:cNvSpPr>
          <p:nvPr>
            <p:ph type="sldNum" idx="5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5C3F-9390-4228-88BD-8D47B4D37A9D}"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dt" idx="4"/>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A013-A366-4759-9CF3-C988344D6300}"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44" name="PlaceHolder 3"/>
          <p:cNvSpPr>
            <a:spLocks noGrp="1"/>
          </p:cNvSpPr>
          <p:nvPr>
            <p:ph type="ftr" idx="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sldNum" idx="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5009-5862-4648-A1A1-11C2603D8E0A}"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6"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47"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图片 12" descr=""/>
          <p:cNvPicPr/>
          <p:nvPr/>
        </p:nvPicPr>
        <p:blipFill>
          <a:blip r:embed="rId2"/>
          <a:stretch/>
        </p:blipFill>
        <p:spPr>
          <a:xfrm>
            <a:off x="0" y="0"/>
            <a:ext cx="9144000" cy="6870600"/>
          </a:xfrm>
          <a:prstGeom prst="rect">
            <a:avLst/>
          </a:prstGeom>
          <a:ln w="0">
            <a:noFill/>
          </a:ln>
        </p:spPr>
      </p:pic>
      <p:sp>
        <p:nvSpPr>
          <p:cNvPr id="7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9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99" name="PlaceHolder 3"/>
          <p:cNvSpPr>
            <a:spLocks noGrp="1"/>
          </p:cNvSpPr>
          <p:nvPr>
            <p:ph type="dt" idx="5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00" name="PlaceHolder 4"/>
          <p:cNvSpPr>
            <a:spLocks noGrp="1"/>
          </p:cNvSpPr>
          <p:nvPr>
            <p:ph type="ftr" idx="5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01" name="PlaceHolder 5"/>
          <p:cNvSpPr>
            <a:spLocks noGrp="1"/>
          </p:cNvSpPr>
          <p:nvPr>
            <p:ph type="sldNum" idx="6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EC81-1B8F-4D6B-B0C4-617D62994C3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图片 12" descr=""/>
          <p:cNvPicPr/>
          <p:nvPr/>
        </p:nvPicPr>
        <p:blipFill>
          <a:blip r:embed="rId2"/>
          <a:stretch/>
        </p:blipFill>
        <p:spPr>
          <a:xfrm>
            <a:off x="0" y="0"/>
            <a:ext cx="9144000" cy="6870600"/>
          </a:xfrm>
          <a:prstGeom prst="rect">
            <a:avLst/>
          </a:prstGeom>
          <a:ln w="0">
            <a:noFill/>
          </a:ln>
        </p:spPr>
      </p:pic>
      <p:sp>
        <p:nvSpPr>
          <p:cNvPr id="8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4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41" name="PlaceHolder 3"/>
          <p:cNvSpPr>
            <a:spLocks noGrp="1"/>
          </p:cNvSpPr>
          <p:nvPr>
            <p:ph type="dt" idx="6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42" name="PlaceHolder 4"/>
          <p:cNvSpPr>
            <a:spLocks noGrp="1"/>
          </p:cNvSpPr>
          <p:nvPr>
            <p:ph type="ftr" idx="6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43" name="PlaceHolder 5"/>
          <p:cNvSpPr>
            <a:spLocks noGrp="1"/>
          </p:cNvSpPr>
          <p:nvPr>
            <p:ph type="sldNum" idx="6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E0DD-0476-4465-AA19-98F374039A1E}"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图片 12" descr=""/>
          <p:cNvPicPr/>
          <p:nvPr/>
        </p:nvPicPr>
        <p:blipFill>
          <a:blip r:embed="rId2"/>
          <a:stretch/>
        </p:blipFill>
        <p:spPr>
          <a:xfrm>
            <a:off x="0" y="0"/>
            <a:ext cx="9144000" cy="6870600"/>
          </a:xfrm>
          <a:prstGeom prst="rect">
            <a:avLst/>
          </a:prstGeom>
          <a:ln w="0">
            <a:noFill/>
          </a:ln>
        </p:spPr>
      </p:pic>
      <p:sp>
        <p:nvSpPr>
          <p:cNvPr id="8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8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83" name="PlaceHolder 3"/>
          <p:cNvSpPr>
            <a:spLocks noGrp="1"/>
          </p:cNvSpPr>
          <p:nvPr>
            <p:ph type="dt" idx="6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4" name="PlaceHolder 4"/>
          <p:cNvSpPr>
            <a:spLocks noGrp="1"/>
          </p:cNvSpPr>
          <p:nvPr>
            <p:ph type="ftr" idx="6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5" name="PlaceHolder 5"/>
          <p:cNvSpPr>
            <a:spLocks noGrp="1"/>
          </p:cNvSpPr>
          <p:nvPr>
            <p:ph type="sldNum" idx="6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FF17-B990-4DFA-B277-007D337369B8}"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6"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7"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5E90-81E2-4684-B846-1BD5CBE17E1F}"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CD74-9B50-4032-97A6-6B5E4A0DCC4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2C75-FFEB-4773-BAEF-233B3BABAA6A}"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图片 12"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8BD8-0F3B-41FB-92CB-4E255FDD476B}"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12"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5"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6"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E9CD-9C6C-4C0A-B2F9-953176A91FEE}"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12"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6"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7"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8"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6498-C136-4195-AA68-785FD17DB6CA}"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图片 12"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8"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9"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0"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3358-EDA5-4F33-86EB-0B71733C1BD1}"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06668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23" name=""/>
          <p:cNvSpPr txBox="1"/>
          <p:nvPr/>
        </p:nvSpPr>
        <p:spPr>
          <a:xfrm>
            <a:off x="1143000" y="1676160"/>
            <a:ext cx="7772400" cy="16002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4" name="矩形 4099"/>
          <p:cNvSpPr/>
          <p:nvPr/>
        </p:nvSpPr>
        <p:spPr>
          <a:xfrm>
            <a:off x="1258920" y="2349360"/>
            <a:ext cx="7489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a3d7a"/>
                </a:solidFill>
                <a:latin typeface="Arial"/>
              </a:rPr>
              <a:t>                </a:t>
            </a:r>
            <a:r>
              <a:rPr b="1" lang="zh-CN" sz="4800" spc="-1" strike="noStrike">
                <a:solidFill>
                  <a:srgbClr val="2a3d7a"/>
                </a:solidFill>
                <a:latin typeface="Arial"/>
              </a:rPr>
              <a:t>  </a:t>
            </a:r>
            <a:r>
              <a:rPr b="1" lang="zh-CN" sz="4800" spc="-1" strike="noStrike">
                <a:solidFill>
                  <a:srgbClr val="2a3d7a"/>
                </a:solidFill>
                <a:latin typeface="Arial"/>
              </a:rPr>
              <a:t>项目一  绪论</a:t>
            </a:r>
            <a:endParaRPr b="0" lang="en-US" sz="4800" spc="-1" strike="noStrike">
              <a:solidFill>
                <a:srgbClr val="5b524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四、贸易方式</a:t>
            </a:r>
            <a:endParaRPr b="0" lang="en-US" sz="4400" spc="-1" strike="noStrike">
              <a:solidFill>
                <a:srgbClr val="2a3d7a"/>
              </a:solidFill>
              <a:latin typeface="Times New Roman"/>
            </a:endParaRPr>
          </a:p>
        </p:txBody>
      </p:sp>
      <p:sp>
        <p:nvSpPr>
          <p:cNvPr id="943" name=""/>
          <p:cNvSpPr txBox="1"/>
          <p:nvPr/>
        </p:nvSpPr>
        <p:spPr>
          <a:xfrm>
            <a:off x="684360" y="2421000"/>
            <a:ext cx="7958160" cy="38815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除普通贸易方式外，还可采用其他贸易方式，如经销、代理、寄售、招标、期货交易、对销交易和加工贸易、电子商务等。</a:t>
            </a:r>
            <a:endParaRPr b="0" lang="en-US" sz="32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20240" y="901440"/>
            <a:ext cx="89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三、国际贸易实务的理论基础</a:t>
            </a:r>
            <a:endParaRPr b="0" lang="en-US" sz="4400" spc="-1" strike="noStrike">
              <a:solidFill>
                <a:srgbClr val="2a3d7a"/>
              </a:solidFill>
              <a:latin typeface="Times New Roman"/>
            </a:endParaRPr>
          </a:p>
        </p:txBody>
      </p:sp>
      <p:sp>
        <p:nvSpPr>
          <p:cNvPr id="945" name=""/>
          <p:cNvSpPr txBox="1"/>
          <p:nvPr/>
        </p:nvSpPr>
        <p:spPr>
          <a:xfrm>
            <a:off x="900000" y="2133720"/>
            <a:ext cx="7772400" cy="4114800"/>
          </a:xfrm>
          <a:prstGeom prst="rect">
            <a:avLst/>
          </a:prstGeom>
          <a:noFill/>
          <a:ln w="0">
            <a:noFill/>
          </a:ln>
        </p:spPr>
        <p:txBody>
          <a:bodyPr anchor="t">
            <a:norm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一、国际贸易的含义</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内容：货物贸易和服务贸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贸与国际分工</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涉及的是独立国家或地区</a:t>
            </a:r>
            <a:endParaRPr b="0" lang="en-US" sz="32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国贸的基本概念及分类</a:t>
            </a:r>
            <a:endParaRPr b="0" lang="en-US" sz="4400" spc="-1" strike="noStrike">
              <a:solidFill>
                <a:srgbClr val="2a3d7a"/>
              </a:solidFill>
              <a:latin typeface="Times New Roman"/>
            </a:endParaRPr>
          </a:p>
        </p:txBody>
      </p:sp>
      <p:sp>
        <p:nvSpPr>
          <p:cNvPr id="947"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国际贸易与对外贸易</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际贸易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对外贸易</a:t>
            </a:r>
            <a:endParaRPr b="0" lang="en-US" sz="32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2800" spc="-1" strike="noStrike">
                <a:solidFill>
                  <a:srgbClr val="5b5249"/>
                </a:solidFill>
                <a:latin typeface="Times New Roman"/>
              </a:rPr>
              <a:t>对外贸易额</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对外贸易差额</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对外贸易量</a:t>
            </a:r>
            <a:endParaRPr b="0" lang="en-US" sz="28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总贸易和专门贸易</a:t>
            </a:r>
            <a:endParaRPr b="0" lang="en-US" sz="4400" spc="-1" strike="noStrike">
              <a:solidFill>
                <a:srgbClr val="2a3d7a"/>
              </a:solidFill>
              <a:latin typeface="Times New Roman"/>
            </a:endParaRPr>
          </a:p>
        </p:txBody>
      </p:sp>
      <p:sp>
        <p:nvSpPr>
          <p:cNvPr id="94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总贸易体系</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专门贸易体系</a:t>
            </a:r>
            <a:endParaRPr b="0" lang="en-US" sz="32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5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出口贸易、进口贸易与过境贸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直接贸易、间接贸易和转口贸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双边贸易、三角贸易和多边贸易</a:t>
            </a:r>
            <a:endParaRPr b="0" lang="en-US" sz="32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5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六）现汇贸易、记账贸易和易货贸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七）有形贸易和无形贸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八）复出口和复进口</a:t>
            </a: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r>
              <a:rPr b="0" lang="zh-CN" sz="4400" spc="-1" strike="noStrike">
                <a:solidFill>
                  <a:srgbClr val="2a3d7a"/>
                </a:solidFill>
                <a:latin typeface="Times New Roman"/>
              </a:rPr>
              <a:t>三、</a:t>
            </a:r>
            <a:r>
              <a:rPr b="1" lang="zh-CN" sz="4400" spc="-1" strike="noStrike">
                <a:solidFill>
                  <a:srgbClr val="2a3d7a"/>
                </a:solidFill>
                <a:latin typeface="Times New Roman"/>
              </a:rPr>
              <a:t>国际贸易分析</a:t>
            </a:r>
            <a:endParaRPr b="0" lang="en-US" sz="4400" spc="-1" strike="noStrike">
              <a:solidFill>
                <a:srgbClr val="2a3d7a"/>
              </a:solidFill>
              <a:latin typeface="Times New Roman"/>
            </a:endParaRPr>
          </a:p>
        </p:txBody>
      </p:sp>
      <p:sp>
        <p:nvSpPr>
          <p:cNvPr id="955" name=""/>
          <p:cNvSpPr txBox="1"/>
          <p:nvPr/>
        </p:nvSpPr>
        <p:spPr>
          <a:xfrm>
            <a:off x="1066680" y="2101680"/>
            <a:ext cx="7772400" cy="4114800"/>
          </a:xfrm>
          <a:prstGeom prst="rect">
            <a:avLst/>
          </a:prstGeom>
          <a:noFill/>
          <a:ln w="0">
            <a:noFill/>
          </a:ln>
        </p:spPr>
        <p:txBody>
          <a:bodyPr anchor="t">
            <a:normAutofit/>
          </a:bodyPr>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一）</a:t>
            </a:r>
            <a:r>
              <a:rPr b="1" lang="zh-CN" sz="3200" spc="-1" strike="noStrike">
                <a:solidFill>
                  <a:srgbClr val="5b5249"/>
                </a:solidFill>
                <a:latin typeface="Times New Roman"/>
              </a:rPr>
              <a:t>贸易规模</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贸易额（</a:t>
            </a:r>
            <a:r>
              <a:rPr b="0" lang="en-US" sz="3200" spc="-1" strike="noStrike">
                <a:solidFill>
                  <a:srgbClr val="5b5249"/>
                </a:solidFill>
                <a:latin typeface="Times New Roman"/>
              </a:rPr>
              <a:t>Trade Value</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贸易差额（</a:t>
            </a:r>
            <a:r>
              <a:rPr b="0" lang="en-US" sz="3200" spc="-1" strike="noStrike">
                <a:solidFill>
                  <a:srgbClr val="5b5249"/>
                </a:solidFill>
                <a:latin typeface="Times New Roman"/>
              </a:rPr>
              <a:t>Balance of Trade</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贸易量</a:t>
            </a:r>
            <a:r>
              <a:rPr b="0" lang="en-US" sz="3200" spc="-1" strike="noStrike">
                <a:solidFill>
                  <a:srgbClr val="5b5249"/>
                </a:solidFill>
                <a:latin typeface="Times New Roman"/>
              </a:rPr>
              <a:t>(trade volumn) </a:t>
            </a: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57" name=""/>
          <p:cNvSpPr txBox="1"/>
          <p:nvPr/>
        </p:nvSpPr>
        <p:spPr>
          <a:xfrm>
            <a:off x="1066680" y="2101680"/>
            <a:ext cx="7772400" cy="4114800"/>
          </a:xfrm>
          <a:prstGeom prst="rect">
            <a:avLst/>
          </a:prstGeom>
          <a:noFill/>
          <a:ln w="0">
            <a:noFill/>
          </a:ln>
        </p:spPr>
        <p:txBody>
          <a:bodyPr anchor="t">
            <a:normAutofit/>
          </a:bodyPr>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二）商品结构</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际贸易商品结构</a:t>
            </a:r>
            <a:r>
              <a:rPr b="0" lang="en-US" sz="3200" spc="-1" strike="noStrike">
                <a:solidFill>
                  <a:srgbClr val="5b5249"/>
                </a:solidFill>
                <a:latin typeface="Times New Roman"/>
              </a:rPr>
              <a:t>(Composition of International Trade)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对外贸易商品结构</a:t>
            </a:r>
            <a:r>
              <a:rPr b="0" lang="en-US" sz="3200" spc="-1" strike="noStrike">
                <a:solidFill>
                  <a:srgbClr val="5b5249"/>
                </a:solidFill>
                <a:latin typeface="Times New Roman"/>
              </a:rPr>
              <a:t>(Composition of Foreign Trade) </a:t>
            </a:r>
            <a:endParaRPr b="0" lang="en-US" sz="32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5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三）地理方向</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际贸易地理方向 </a:t>
            </a:r>
            <a:r>
              <a:rPr b="0" lang="en-US" sz="3200" spc="-1" strike="noStrike">
                <a:solidFill>
                  <a:srgbClr val="5b5249"/>
                </a:solidFill>
                <a:latin typeface="Times New Roman"/>
              </a:rPr>
              <a:t>(International Trade by Region)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对外贸易地理方向（</a:t>
            </a:r>
            <a:r>
              <a:rPr b="0" lang="en-US" sz="3200" spc="-1" strike="noStrike">
                <a:solidFill>
                  <a:srgbClr val="5b5249"/>
                </a:solidFill>
                <a:latin typeface="Times New Roman"/>
              </a:rPr>
              <a:t>Direction of Foreign Trade</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6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四）贸易条件</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5b5249"/>
                </a:solidFill>
                <a:latin typeface="Times New Roman"/>
              </a:rPr>
              <a:t>贸易条件系数</a:t>
            </a:r>
            <a:r>
              <a:rPr b="0" i="1" lang="en-US" sz="3200" spc="-1" strike="noStrike">
                <a:solidFill>
                  <a:srgbClr val="5b5249"/>
                </a:solidFill>
                <a:latin typeface="Times New Roman"/>
              </a:rPr>
              <a:t>=</a:t>
            </a:r>
            <a:r>
              <a:rPr b="0" i="1" lang="zh-CN" sz="3200" spc="-1" strike="noStrike">
                <a:solidFill>
                  <a:srgbClr val="5b5249"/>
                </a:solidFill>
                <a:latin typeface="Times New Roman"/>
              </a:rPr>
              <a:t>出口价格指数</a:t>
            </a:r>
            <a:r>
              <a:rPr b="0" i="1" lang="en-US" sz="3200" spc="-1" strike="noStrike">
                <a:solidFill>
                  <a:srgbClr val="5b5249"/>
                </a:solidFill>
                <a:latin typeface="Times New Roman"/>
              </a:rPr>
              <a:t>÷</a:t>
            </a:r>
            <a:r>
              <a:rPr b="0" i="1" lang="zh-CN" sz="3200" spc="-1" strike="noStrike">
                <a:solidFill>
                  <a:srgbClr val="5b5249"/>
                </a:solidFill>
                <a:latin typeface="Times New Roman"/>
              </a:rPr>
              <a:t>进口价格指数</a:t>
            </a:r>
            <a:r>
              <a:rPr b="0" i="1" lang="en-US" sz="3200" spc="-1" strike="noStrike">
                <a:solidFill>
                  <a:srgbClr val="5b5249"/>
                </a:solidFill>
                <a:latin typeface="Times New Roman"/>
              </a:rPr>
              <a:t>X100%</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68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26" name=""/>
          <p:cNvSpPr txBox="1"/>
          <p:nvPr/>
        </p:nvSpPr>
        <p:spPr>
          <a:xfrm>
            <a:off x="304920" y="1212480"/>
            <a:ext cx="7772400" cy="2459160"/>
          </a:xfrm>
          <a:prstGeom prst="rect">
            <a:avLst/>
          </a:prstGeom>
          <a:noFill/>
          <a:ln w="0">
            <a:noFill/>
          </a:ln>
        </p:spPr>
        <p:txBody>
          <a:bodyPr anchor="t">
            <a:normAutofit fontScale="51000"/>
          </a:bodyPr>
          <a:p>
            <a:pPr marL="232920" indent="-232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知识目标：</a:t>
            </a:r>
            <a:endParaRPr b="0" lang="en-US" sz="32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了解国际贸易产生和发展的条件</a:t>
            </a:r>
            <a:endParaRPr b="0" lang="en-US" sz="20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理解国际贸易课程的学科体系</a:t>
            </a:r>
            <a:endParaRPr b="0" lang="en-US" sz="20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掌握国际贸易的基本概念</a:t>
            </a:r>
            <a:endParaRPr b="0" lang="en-US" sz="2000" spc="-1" strike="noStrike">
              <a:solidFill>
                <a:srgbClr val="5b5249"/>
              </a:solidFill>
              <a:latin typeface="Times New Roman"/>
            </a:endParaRPr>
          </a:p>
          <a:p>
            <a:pPr marL="232920" indent="-232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能力目标：</a:t>
            </a:r>
            <a:endParaRPr b="0" lang="en-US" sz="32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能解释国际贸易的相关概念</a:t>
            </a:r>
            <a:endParaRPr b="0" lang="en-US" sz="20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能分析国际贸易的相关指标</a:t>
            </a:r>
            <a:endParaRPr b="0" lang="en-US" sz="2000" spc="-1" strike="noStrike">
              <a:solidFill>
                <a:srgbClr val="5b5249"/>
              </a:solidFill>
              <a:latin typeface="Times New Roman"/>
            </a:endParaRPr>
          </a:p>
          <a:p>
            <a:pPr marL="232920" indent="-232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素质目标：</a:t>
            </a:r>
            <a:endParaRPr b="0" lang="en-US" sz="32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引导学生树立远大理想，弘扬安国主义情怀，树立正确的人生观、世界观、价值观</a:t>
            </a:r>
            <a:endParaRPr b="0" lang="en-US" sz="20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培养爱岗敬业、诚实守信的良好职业道德</a:t>
            </a:r>
            <a:endParaRPr b="0" lang="en-US" sz="20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培养国际贸易从业人员要求的基本素养</a:t>
            </a:r>
            <a:endParaRPr b="0" lang="en-US" sz="2000" spc="-1" strike="noStrike">
              <a:solidFill>
                <a:srgbClr val="5b5249"/>
              </a:solidFill>
              <a:latin typeface="Times New Roman"/>
            </a:endParaRPr>
          </a:p>
        </p:txBody>
      </p:sp>
      <p:sp>
        <p:nvSpPr>
          <p:cNvPr id="927" name="矩形 4099"/>
          <p:cNvSpPr/>
          <p:nvPr/>
        </p:nvSpPr>
        <p:spPr>
          <a:xfrm>
            <a:off x="1258920" y="2349360"/>
            <a:ext cx="7489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a3d7a"/>
                </a:solidFill>
                <a:latin typeface="Arial"/>
              </a:rPr>
              <a:t>                </a:t>
            </a:r>
            <a:r>
              <a:rPr b="1" lang="zh-CN" sz="4800" spc="-1" strike="noStrike">
                <a:solidFill>
                  <a:srgbClr val="2a3d7a"/>
                </a:solidFill>
                <a:latin typeface="Arial"/>
              </a:rPr>
              <a:t>  </a:t>
            </a:r>
            <a:endParaRPr b="0" lang="en-US" sz="4800" spc="-1" strike="noStrike">
              <a:solidFill>
                <a:srgbClr val="5b524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6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五）对外贸易依存度</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5b5249"/>
                </a:solidFill>
                <a:latin typeface="Times New Roman"/>
              </a:rPr>
              <a:t>对外贸易依存度＝对外贸易额</a:t>
            </a:r>
            <a:r>
              <a:rPr b="0" i="1" lang="en-US" sz="3200" spc="-1" strike="noStrike">
                <a:solidFill>
                  <a:srgbClr val="5b5249"/>
                </a:solidFill>
                <a:latin typeface="Times New Roman"/>
              </a:rPr>
              <a:t>÷GNP</a:t>
            </a:r>
            <a:r>
              <a:rPr b="0" i="1" lang="zh-CN" sz="3200" spc="-1" strike="noStrike">
                <a:solidFill>
                  <a:srgbClr val="5b5249"/>
                </a:solidFill>
                <a:latin typeface="Times New Roman"/>
              </a:rPr>
              <a:t>（或</a:t>
            </a:r>
            <a:r>
              <a:rPr b="0" i="1" lang="en-US" sz="3200" spc="-1" strike="noStrike">
                <a:solidFill>
                  <a:srgbClr val="5b5249"/>
                </a:solidFill>
                <a:latin typeface="Times New Roman"/>
              </a:rPr>
              <a:t>GDP</a:t>
            </a:r>
            <a:r>
              <a:rPr b="0" i="1"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6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六）对外贸易政策</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a:t>
            </a:r>
            <a:r>
              <a:rPr b="1" lang="en-US" sz="3200" spc="-1" strike="noStrike">
                <a:solidFill>
                  <a:srgbClr val="5b5249"/>
                </a:solidFill>
                <a:latin typeface="Times New Roman"/>
              </a:rPr>
              <a:t>1</a:t>
            </a:r>
            <a:r>
              <a:rPr b="1" lang="zh-CN" sz="3200" spc="-1" strike="noStrike">
                <a:solidFill>
                  <a:srgbClr val="5b5249"/>
                </a:solidFill>
                <a:latin typeface="Times New Roman"/>
              </a:rPr>
              <a:t>）对外贸易总政策</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a:t>
            </a:r>
            <a:r>
              <a:rPr b="1" lang="en-US" sz="3200" spc="-1" strike="noStrike">
                <a:solidFill>
                  <a:srgbClr val="5b5249"/>
                </a:solidFill>
                <a:latin typeface="Times New Roman"/>
              </a:rPr>
              <a:t>2</a:t>
            </a:r>
            <a:r>
              <a:rPr b="1" lang="zh-CN" sz="3200" spc="-1" strike="noStrike">
                <a:solidFill>
                  <a:srgbClr val="5b5249"/>
                </a:solidFill>
                <a:latin typeface="Times New Roman"/>
              </a:rPr>
              <a:t>）对外贸易国别（或地区）政策</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a:t>
            </a:r>
            <a:r>
              <a:rPr b="1" lang="en-US" sz="3200" spc="-1" strike="noStrike">
                <a:solidFill>
                  <a:srgbClr val="5b5249"/>
                </a:solidFill>
                <a:latin typeface="Times New Roman"/>
              </a:rPr>
              <a:t>3</a:t>
            </a:r>
            <a:r>
              <a:rPr b="1" lang="zh-CN" sz="3200" spc="-1" strike="noStrike">
                <a:solidFill>
                  <a:srgbClr val="5b5249"/>
                </a:solidFill>
                <a:latin typeface="Times New Roman"/>
              </a:rPr>
              <a:t>）对外贸易具体政策</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导入</a:t>
            </a:r>
            <a:endParaRPr b="0" lang="en-US" sz="4400" spc="-1" strike="noStrike">
              <a:solidFill>
                <a:srgbClr val="2a3d7a"/>
              </a:solidFill>
              <a:latin typeface="Times New Roman"/>
            </a:endParaRPr>
          </a:p>
        </p:txBody>
      </p:sp>
      <p:sp>
        <p:nvSpPr>
          <p:cNvPr id="929" name=""/>
          <p:cNvSpPr txBox="1"/>
          <p:nvPr/>
        </p:nvSpPr>
        <p:spPr>
          <a:xfrm>
            <a:off x="323640" y="1988640"/>
            <a:ext cx="8515080" cy="42274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020</a:t>
            </a:r>
            <a:r>
              <a:rPr b="0" lang="zh-CN" sz="2800" spc="-1" strike="noStrike">
                <a:solidFill>
                  <a:srgbClr val="5b5249"/>
                </a:solidFill>
                <a:latin typeface="Times New Roman"/>
              </a:rPr>
              <a:t>年</a:t>
            </a:r>
            <a:r>
              <a:rPr b="0" lang="en-US" sz="2800" spc="-1" strike="noStrike">
                <a:solidFill>
                  <a:srgbClr val="5b5249"/>
                </a:solidFill>
                <a:latin typeface="Times New Roman"/>
              </a:rPr>
              <a:t>1</a:t>
            </a:r>
            <a:r>
              <a:rPr b="0" lang="zh-CN" sz="2800" spc="-1" strike="noStrike">
                <a:solidFill>
                  <a:srgbClr val="5b5249"/>
                </a:solidFill>
                <a:latin typeface="Times New Roman"/>
              </a:rPr>
              <a:t>月，中国天津光明公司与美国设在中国广州的外商独资企业史密斯公司在大连签订一份货物买卖合同，合同规定，由史密斯公司向光明公司出售一批移动电信设备，总金额为</a:t>
            </a:r>
            <a:r>
              <a:rPr b="0" lang="en-US" sz="2800" spc="-1" strike="noStrike">
                <a:solidFill>
                  <a:srgbClr val="5b5249"/>
                </a:solidFill>
                <a:latin typeface="Times New Roman"/>
              </a:rPr>
              <a:t>200</a:t>
            </a:r>
            <a:r>
              <a:rPr b="0" lang="zh-CN" sz="2800" spc="-1" strike="noStrike">
                <a:solidFill>
                  <a:srgbClr val="5b5249"/>
                </a:solidFill>
                <a:latin typeface="Times New Roman"/>
              </a:rPr>
              <a:t>万美元，交货地点在光明公司设在沈阳的仓库。双方在执行合同的过程中，对合同有关条款的解释发生争议。史密斯公司提出应该适用</a:t>
            </a:r>
            <a:r>
              <a:rPr b="0" lang="en-US" sz="2800" spc="-1" strike="noStrike">
                <a:solidFill>
                  <a:srgbClr val="5b5249"/>
                </a:solidFill>
                <a:latin typeface="Times New Roman"/>
              </a:rPr>
              <a:t>《</a:t>
            </a:r>
            <a:r>
              <a:rPr b="0" lang="zh-CN" sz="2800" spc="-1" strike="noStrike">
                <a:solidFill>
                  <a:srgbClr val="5b5249"/>
                </a:solidFill>
                <a:latin typeface="Times New Roman"/>
              </a:rPr>
              <a:t>联合国国际货物销售合同公约</a:t>
            </a:r>
            <a:r>
              <a:rPr b="0" lang="en-US" sz="2800" spc="-1" strike="noStrike">
                <a:solidFill>
                  <a:srgbClr val="5b5249"/>
                </a:solidFill>
                <a:latin typeface="Times New Roman"/>
              </a:rPr>
              <a:t>》</a:t>
            </a:r>
            <a:r>
              <a:rPr b="0" lang="zh-CN" sz="2800" spc="-1" strike="noStrike">
                <a:solidFill>
                  <a:srgbClr val="5b5249"/>
                </a:solidFill>
                <a:latin typeface="Times New Roman"/>
              </a:rPr>
              <a:t>，而光明公司则认为应该按中国法律。</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试分析解决此项纠纷究竟应该适用什么法律。</a:t>
            </a:r>
            <a:endParaRPr b="0" lang="en-US" sz="28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评析：</a:t>
            </a:r>
            <a:endParaRPr b="0" lang="en-US" sz="4400" spc="-1" strike="noStrike">
              <a:solidFill>
                <a:srgbClr val="2a3d7a"/>
              </a:solidFill>
              <a:latin typeface="Times New Roman"/>
            </a:endParaRPr>
          </a:p>
        </p:txBody>
      </p:sp>
      <p:sp>
        <p:nvSpPr>
          <p:cNvPr id="931" name=""/>
          <p:cNvSpPr txBox="1"/>
          <p:nvPr/>
        </p:nvSpPr>
        <p:spPr>
          <a:xfrm>
            <a:off x="324000" y="2349360"/>
            <a:ext cx="856440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目前在国际上与国际贸易关系较为密切的国际条约主要是</a:t>
            </a:r>
            <a:r>
              <a:rPr b="0" lang="en-US" sz="2800" spc="-1" strike="noStrike">
                <a:solidFill>
                  <a:srgbClr val="5b5249"/>
                </a:solidFill>
                <a:latin typeface="Times New Roman"/>
              </a:rPr>
              <a:t>《</a:t>
            </a:r>
            <a:r>
              <a:rPr b="0" lang="zh-CN" sz="2800" spc="-1" strike="noStrike">
                <a:solidFill>
                  <a:srgbClr val="5b5249"/>
                </a:solidFill>
                <a:latin typeface="Times New Roman"/>
              </a:rPr>
              <a:t>联合国国际货物销售合同公约</a:t>
            </a:r>
            <a:r>
              <a:rPr b="0" lang="en-US" sz="2800" spc="-1" strike="noStrike">
                <a:solidFill>
                  <a:srgbClr val="5b5249"/>
                </a:solidFill>
                <a:latin typeface="Times New Roman"/>
              </a:rPr>
              <a:t>》</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该</a:t>
            </a:r>
            <a:r>
              <a:rPr b="0" lang="en-US" sz="2800" spc="-1" strike="noStrike">
                <a:solidFill>
                  <a:srgbClr val="5b5249"/>
                </a:solidFill>
                <a:latin typeface="Times New Roman"/>
              </a:rPr>
              <a:t>《</a:t>
            </a:r>
            <a:r>
              <a:rPr b="0" lang="zh-CN" sz="2800" spc="-1" strike="noStrike">
                <a:solidFill>
                  <a:srgbClr val="5b5249"/>
                </a:solidFill>
                <a:latin typeface="Times New Roman"/>
              </a:rPr>
              <a:t>公约</a:t>
            </a:r>
            <a:r>
              <a:rPr b="0" lang="en-US" sz="2800" spc="-1" strike="noStrike">
                <a:solidFill>
                  <a:srgbClr val="5b5249"/>
                </a:solidFill>
                <a:latin typeface="Times New Roman"/>
              </a:rPr>
              <a:t>》</a:t>
            </a:r>
            <a:r>
              <a:rPr b="0" lang="zh-CN" sz="2800" spc="-1" strike="noStrike">
                <a:solidFill>
                  <a:srgbClr val="5b5249"/>
                </a:solidFill>
                <a:latin typeface="Times New Roman"/>
              </a:rPr>
              <a:t>规定，如果合同双方当事人的营业地是处于不同的国家，而且这些国家都是该公约的缔约国，该公约就适用于他们之间订立的货物买卖合同，即该公约适用于营业地处于不同的缔约国的当事人之间订立的买卖合同。</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而本案中光明公司与史密斯公司营业地均在中国，合同也是在大连签订的，所以该合同不是国际货物买卖合同，因此所适用的法律应该按中国法律。</a:t>
            </a:r>
            <a:endParaRPr b="0" lang="en-US" sz="28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066680" y="837720"/>
            <a:ext cx="7772400" cy="162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2a3d7a"/>
                </a:solidFill>
                <a:latin typeface="Times New Roman"/>
              </a:rPr>
              <a:t>任务一国际贸易的概述</a:t>
            </a:r>
            <a:br>
              <a:rPr sz="4400"/>
            </a:br>
            <a:r>
              <a:rPr b="0" lang="zh-CN" sz="3600" spc="-1" strike="noStrike">
                <a:solidFill>
                  <a:srgbClr val="2a3d7a"/>
                </a:solidFill>
                <a:latin typeface="Times New Roman"/>
              </a:rPr>
              <a:t>一、国际贸易的产生和发展</a:t>
            </a:r>
            <a:endParaRPr b="0" lang="en-US" sz="3600" spc="-1" strike="noStrike">
              <a:solidFill>
                <a:srgbClr val="2a3d7a"/>
              </a:solidFill>
              <a:latin typeface="Times New Roman"/>
            </a:endParaRPr>
          </a:p>
        </p:txBody>
      </p:sp>
      <p:sp>
        <p:nvSpPr>
          <p:cNvPr id="933" name=""/>
          <p:cNvSpPr txBox="1"/>
          <p:nvPr/>
        </p:nvSpPr>
        <p:spPr>
          <a:xfrm>
            <a:off x="1066680" y="2623680"/>
            <a:ext cx="7772400" cy="359244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1</a:t>
            </a:r>
            <a:r>
              <a:rPr b="0" lang="zh-CN" sz="3200" spc="-1" strike="noStrike">
                <a:solidFill>
                  <a:srgbClr val="5b5249"/>
                </a:solidFill>
                <a:latin typeface="宋体"/>
              </a:rPr>
              <a:t>、</a:t>
            </a:r>
            <a:r>
              <a:rPr b="0" lang="zh-CN" sz="3200" spc="-1" strike="noStrike">
                <a:solidFill>
                  <a:srgbClr val="5b5249"/>
                </a:solidFill>
                <a:latin typeface="Times New Roman"/>
              </a:rPr>
              <a:t>  </a:t>
            </a:r>
            <a:r>
              <a:rPr b="0" lang="zh-CN" sz="3200" spc="-1" strike="noStrike">
                <a:solidFill>
                  <a:srgbClr val="5b5249"/>
                </a:solidFill>
                <a:latin typeface="宋体"/>
              </a:rPr>
              <a:t>国际分工的出现</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2</a:t>
            </a:r>
            <a:r>
              <a:rPr b="0" lang="zh-CN" sz="3200" spc="-1" strike="noStrike">
                <a:solidFill>
                  <a:srgbClr val="5b5249"/>
                </a:solidFill>
                <a:latin typeface="宋体"/>
              </a:rPr>
              <a:t>、</a:t>
            </a:r>
            <a:r>
              <a:rPr b="0" lang="zh-CN" sz="3200" spc="-1" strike="noStrike">
                <a:solidFill>
                  <a:srgbClr val="5b5249"/>
                </a:solidFill>
                <a:latin typeface="Times New Roman"/>
              </a:rPr>
              <a:t>  </a:t>
            </a:r>
            <a:r>
              <a:rPr b="0" lang="zh-CN" sz="3200" spc="-1" strike="noStrike">
                <a:solidFill>
                  <a:srgbClr val="5b5249"/>
                </a:solidFill>
                <a:latin typeface="宋体"/>
              </a:rPr>
              <a:t>世界市场的形成</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3</a:t>
            </a:r>
            <a:r>
              <a:rPr b="0" lang="zh-CN" sz="3200" spc="-1" strike="noStrike">
                <a:solidFill>
                  <a:srgbClr val="5b5249"/>
                </a:solidFill>
                <a:latin typeface="宋体"/>
              </a:rPr>
              <a:t>、 生产力的发展是国际贸易产生和发展的根本原因</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539640" y="1267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任务二、国际贸易实务课程的法律适用及学科体系</a:t>
            </a:r>
            <a:endParaRPr b="0" lang="en-US" sz="4000" spc="-1" strike="noStrike">
              <a:solidFill>
                <a:srgbClr val="2a3d7a"/>
              </a:solidFill>
              <a:latin typeface="Times New Roman"/>
            </a:endParaRPr>
          </a:p>
        </p:txBody>
      </p:sp>
      <p:sp>
        <p:nvSpPr>
          <p:cNvPr id="935" name=""/>
          <p:cNvSpPr txBox="1"/>
          <p:nvPr/>
        </p:nvSpPr>
        <p:spPr>
          <a:xfrm>
            <a:off x="539640" y="2411280"/>
            <a:ext cx="7772400" cy="411480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理论：为什么要贸易？</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政策</a:t>
            </a:r>
            <a:r>
              <a:rPr b="0" lang="en-US" sz="3600" spc="-1" strike="noStrike">
                <a:solidFill>
                  <a:srgbClr val="5b5249"/>
                </a:solidFill>
                <a:latin typeface="Times New Roman"/>
              </a:rPr>
              <a:t>:   </a:t>
            </a:r>
            <a:r>
              <a:rPr b="0" lang="zh-CN" sz="3600" spc="-1" strike="noStrike">
                <a:solidFill>
                  <a:srgbClr val="5b5249"/>
                </a:solidFill>
                <a:latin typeface="Times New Roman"/>
              </a:rPr>
              <a:t>国家态度？</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实务</a:t>
            </a:r>
            <a:r>
              <a:rPr b="0" lang="en-US" sz="3600" spc="-1" strike="noStrike">
                <a:solidFill>
                  <a:srgbClr val="5b5249"/>
                </a:solidFill>
                <a:latin typeface="Times New Roman"/>
              </a:rPr>
              <a:t>:   </a:t>
            </a:r>
            <a:r>
              <a:rPr b="0" lang="zh-CN" sz="3600" spc="-1" strike="noStrike">
                <a:solidFill>
                  <a:srgbClr val="5b5249"/>
                </a:solidFill>
                <a:latin typeface="Times New Roman"/>
              </a:rPr>
              <a:t>如何进行？</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本书</a:t>
            </a:r>
            <a:r>
              <a:rPr b="0" lang="en-US" sz="3200" spc="-1" strike="noStrike">
                <a:solidFill>
                  <a:srgbClr val="5b5249"/>
                </a:solidFill>
                <a:latin typeface="Times New Roman"/>
              </a:rPr>
              <a:t>《</a:t>
            </a:r>
            <a:r>
              <a:rPr b="0" lang="zh-CN" sz="3200" spc="-1" strike="noStrike">
                <a:solidFill>
                  <a:srgbClr val="5b5249"/>
                </a:solidFill>
                <a:latin typeface="Times New Roman"/>
              </a:rPr>
              <a:t>国际贸易实务</a:t>
            </a:r>
            <a:r>
              <a:rPr b="0" lang="en-US" sz="3200" spc="-1" strike="noStrike">
                <a:solidFill>
                  <a:srgbClr val="5b5249"/>
                </a:solidFill>
                <a:latin typeface="Times New Roman"/>
              </a:rPr>
              <a:t>》</a:t>
            </a:r>
            <a:r>
              <a:rPr b="0" lang="zh-CN" sz="3200" spc="-1" strike="noStrike">
                <a:solidFill>
                  <a:srgbClr val="5b5249"/>
                </a:solidFill>
                <a:latin typeface="Times New Roman"/>
              </a:rPr>
              <a:t>涉及的就是第三部分，主要介绍国际货物买卖方面的基本业务知识、规则与技能。具体涉及以下内容：</a:t>
            </a: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一、国际货物贸易适用的法律与惯例</a:t>
            </a:r>
            <a:endParaRPr b="0" lang="en-US" sz="3600" spc="-1" strike="noStrike">
              <a:solidFill>
                <a:srgbClr val="2a3d7a"/>
              </a:solidFill>
              <a:latin typeface="Times New Roman"/>
            </a:endParaRPr>
          </a:p>
        </p:txBody>
      </p:sp>
      <p:sp>
        <p:nvSpPr>
          <p:cNvPr id="937" name=""/>
          <p:cNvSpPr txBox="1"/>
          <p:nvPr/>
        </p:nvSpPr>
        <p:spPr>
          <a:xfrm>
            <a:off x="971640" y="2133720"/>
            <a:ext cx="7772400" cy="4114800"/>
          </a:xfrm>
          <a:prstGeom prst="rect">
            <a:avLst/>
          </a:prstGeom>
          <a:noFill/>
          <a:ln w="0">
            <a:noFill/>
          </a:ln>
        </p:spPr>
        <p:txBody>
          <a:bodyPr anchor="t">
            <a:norm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一）国际货物贸易适用的法律</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zh-CN" sz="2800" spc="-1" strike="noStrike">
                <a:solidFill>
                  <a:srgbClr val="5b5249"/>
                </a:solidFill>
                <a:latin typeface="Times New Roman"/>
              </a:rPr>
              <a:t>联合国国际货物销售合同公约</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相关国家的国内法。 </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二）国际贸易惯例</a:t>
            </a:r>
            <a:r>
              <a:rPr b="0" lang="zh-CN" sz="2800" spc="-1" strike="noStrike">
                <a:solidFill>
                  <a:srgbClr val="5b5249"/>
                </a:solidFill>
                <a:latin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zh-CN" sz="2800" spc="-1" strike="noStrike">
                <a:solidFill>
                  <a:srgbClr val="5b5249"/>
                </a:solidFill>
                <a:latin typeface="Times New Roman"/>
              </a:rPr>
              <a:t>国际贸易术语解释通则</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zh-CN" sz="2800" spc="-1" strike="noStrike">
                <a:solidFill>
                  <a:srgbClr val="5b5249"/>
                </a:solidFill>
                <a:latin typeface="Times New Roman"/>
              </a:rPr>
              <a:t>跟单信用证统一惯例</a:t>
            </a:r>
            <a:r>
              <a:rPr b="0" lang="en-US" sz="2800" spc="-1" strike="noStrike">
                <a:solidFill>
                  <a:srgbClr val="5b5249"/>
                </a:solidFill>
                <a:latin typeface="Times New Roman"/>
              </a:rPr>
              <a:t>》</a:t>
            </a:r>
            <a:r>
              <a:rPr b="0" lang="zh-CN" sz="2800" spc="-1" strike="noStrike">
                <a:solidFill>
                  <a:srgbClr val="5b5249"/>
                </a:solidFill>
                <a:latin typeface="Times New Roman"/>
              </a:rPr>
              <a:t>（</a:t>
            </a:r>
            <a:r>
              <a:rPr b="0" lang="en-US" sz="2800" spc="-1" strike="noStrike">
                <a:solidFill>
                  <a:srgbClr val="5b5249"/>
                </a:solidFill>
                <a:latin typeface="Times New Roman"/>
              </a:rPr>
              <a:t>UCP600</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a:t>
            </a:r>
            <a:r>
              <a:rPr b="0" lang="zh-CN" sz="2800" spc="-1" strike="noStrike">
                <a:solidFill>
                  <a:srgbClr val="5b5249"/>
                </a:solidFill>
                <a:latin typeface="Times New Roman"/>
              </a:rPr>
              <a:t>托收统一规则</a:t>
            </a:r>
            <a:r>
              <a:rPr b="0" lang="en-US" sz="2800" spc="-1" strike="noStrike">
                <a:solidFill>
                  <a:srgbClr val="5b5249"/>
                </a:solidFill>
                <a:latin typeface="Times New Roman"/>
              </a:rPr>
              <a:t>》</a:t>
            </a:r>
            <a:r>
              <a:rPr b="0" lang="zh-CN" sz="2800" spc="-1" strike="noStrike">
                <a:solidFill>
                  <a:srgbClr val="5b5249"/>
                </a:solidFill>
                <a:latin typeface="Times New Roman"/>
              </a:rPr>
              <a:t>（</a:t>
            </a:r>
            <a:r>
              <a:rPr b="0" lang="en-US" sz="2800" spc="-1" strike="noStrike">
                <a:solidFill>
                  <a:srgbClr val="5b5249"/>
                </a:solidFill>
                <a:latin typeface="Times New Roman"/>
              </a:rPr>
              <a:t>URC522</a:t>
            </a:r>
            <a:r>
              <a:rPr b="0" lang="zh-CN" sz="2800" spc="-1" strike="noStrike">
                <a:solidFill>
                  <a:srgbClr val="5b5249"/>
                </a:solidFill>
                <a:latin typeface="Times New Roman"/>
              </a:rPr>
              <a:t>）</a:t>
            </a:r>
            <a:endParaRPr b="0" lang="en-US" sz="28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合同条款</a:t>
            </a:r>
            <a:endParaRPr b="0" lang="en-US" sz="4400" spc="-1" strike="noStrike">
              <a:solidFill>
                <a:srgbClr val="2a3d7a"/>
              </a:solidFill>
              <a:latin typeface="Times New Roman"/>
            </a:endParaRPr>
          </a:p>
        </p:txBody>
      </p:sp>
      <p:sp>
        <p:nvSpPr>
          <p:cNvPr id="939" name=""/>
          <p:cNvSpPr txBox="1"/>
          <p:nvPr/>
        </p:nvSpPr>
        <p:spPr>
          <a:xfrm>
            <a:off x="468360" y="2492280"/>
            <a:ext cx="7958160" cy="38815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般包括采用何种贸易术语、成交商品的名称、品质、数量、包装、价格、运输、保险、支付、商检、索赔、不可抗力和仲裁等交易条件。</a:t>
            </a:r>
            <a:endParaRPr b="0" lang="en-US" sz="32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合同的商订和履行</a:t>
            </a:r>
            <a:endParaRPr b="0" lang="en-US" sz="4400" spc="-1" strike="noStrike">
              <a:solidFill>
                <a:srgbClr val="2a3d7a"/>
              </a:solidFill>
              <a:latin typeface="Times New Roman"/>
            </a:endParaRPr>
          </a:p>
        </p:txBody>
      </p:sp>
      <p:sp>
        <p:nvSpPr>
          <p:cNvPr id="94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合同商订的过程，可能包括询盘、发盘、还盘和接受各环节。一般情况下，当接受生效的时候，合同即告成立。</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合同的履行是实现货物和资金按约定方式转移的过程。</a:t>
            </a: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41:40Z</dcterms:modified>
  <cp:revision>14</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